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5BE-F1D1-4F4B-B52E-DBE4AF5C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598-B9C0-4D13-B232-AC42DB8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D6B-FCDD-4163-A38F-334272D7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14E-6AF0-4BF1-998B-57C4BA3A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D08-0845-4C60-811F-1F20EB60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2D7-4CFF-46CD-A0CD-AA0CB09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E8C-E8D0-4967-821B-9BC9C17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90C-3DCF-4B0D-BB4A-74D1F3BB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D36-7F08-4CF9-A164-341275A3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C5B-F390-443C-A07F-F18B3E8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096-E8D4-4EE4-80B3-22B6AB6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FBF-440A-4407-BFE4-6BBD2E8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95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20D-8FEF-41CB-944A-A9CA4C5C2C0B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960" y="2286000"/>
            <a:ext cx="769608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北區毒災應變諮詢中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工研院 陳范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VAN@ITRI.ORG.TW</a:t>
            </a: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中華民國 九十一 年 十一 月 二十二 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九十一年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緊急諮詢案例分析研討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0"/>
            <a:ext cx="49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66"/>
                </a:solidFill>
                <a:latin typeface="Arial"/>
                <a:ea typeface="華康粗圓體"/>
              </a:rPr>
              <a:t>行政院環境保護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85752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97B-436E-4A4D-8EBF-3D580C1117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統友公司鐵桶膨脹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9: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新莊市三和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-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統友公司倉庫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脂肪族聚異氰酸化合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Aliphatic polyisocyan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時，北區毒災應變諮詢中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拜耳公司邱經理通報，該公司所供應化學品下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倉儲業者倉庫內，發現一鐵桶膨脹變型，經確認該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非列管毒性化學物質，由消防同仁四位著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級防護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，攜帶工具進行鐵桶洩壓工作，事故於上午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解除，隨後進行災因調查、檢討與殘留物質清理工作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492-7F71-4118-827B-792E12654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華康粗圓體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305-D5AF-4EC1-9194-C13EB3166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14300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預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ven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143000"/>
            <a:ext cx="289548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整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para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809880"/>
            <a:ext cx="2895480" cy="198144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應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sponse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73392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復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covery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20040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800600"/>
            <a:ext cx="9907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200400"/>
            <a:ext cx="0" cy="457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5C8-3A9E-4D4C-9628-B53D912EC2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aeaea"/>
                </a:solidFill>
                <a:latin typeface="Times New Roman"/>
                <a:ea typeface="華康粗圓體"/>
              </a:rPr>
              <a:t>毒災演練規劃重點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827-72DE-4B5F-AB88-5EF462FA3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需先規劃演練計畫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依據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災害防救法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目的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熟悉跨縣市支援的角色與能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方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高司作業、實際演練、裝備展示宣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地點與籌備時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儘量腹地廣大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指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中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、主辦、協辦、承辦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參演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跨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狀況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複合型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項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提升至中央層級災害規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配合事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51F-A0CC-4142-84A3-D180416F9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066680"/>
            <a:ext cx="8001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災害規模超過縣市應變能力範圍，需要其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縣市支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腳本規劃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特殊的搶救器材或應變裝備不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最好演出的是複合型災害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火災、毒災洩漏、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傷患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對外求援通報的機制要突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中央協調，需成立中央災害應變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突顯整合後的應變指揮系統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現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E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成立明顯的資源器材集結區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跨縣市毒災演練特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02F-FC8D-43F4-9D72-BB03E45C0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一：事故發生通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現人、 受傷人員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地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時間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何種危害物、 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-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洩漏、 火災、 爆炸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eath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目前初步處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W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建立通報與廣播詞範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毒災發生時需於一小時內通知環保單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F56-E833-4B9C-9CE8-5C7B6F1949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9000" y="0"/>
            <a:ext cx="75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二：應變小組與應變中心成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9907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集結與清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指揮官與權責分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countability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ERC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位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的軟、硬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考量風向的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有時為了掌握災情，需成立前進指揮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1F2-74DE-43AA-8808-091E9020A1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三：危害確認及災情評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初期隔離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solate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禁止進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Deny Ent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必要時進行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利用望遠鏡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CTV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G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危害標示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九大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質安全資料表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MS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應變程序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OP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或其他應變書籍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廠區平面圖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Layout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P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鄰近地區圖及人口分佈資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msds6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DDC-ED0B-4175-ABE1-A7A7588DD1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066680"/>
            <a:ext cx="7696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指認：指認可能的危害源及危害物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dentif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估量：估量結果提供做決策及制定行動計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實：時間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位置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事故特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傷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曝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性：生命危害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變速率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擴散區域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火災爆炸可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破壞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的變化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救援的財產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狀況：考量事故過去、現在、未來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預測能力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力、生產設備及週邊器材用具等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資源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920" y="0"/>
            <a:ext cx="74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(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情評估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E2F-774A-4865-86EB-5A49CA4436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湖口工業區友發化工意外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83664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新竹縣湖口工業區友發化工廠儲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黃磷水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大年初五剛開工，新竹縣湖口工業區友發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工廠在進行開工程序檢查時，發現黃磷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儲存槽的輸送管接縫處有外洩情況，漏出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黃磷產生大量的濃煙與嗆鼻的刺激味，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量約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0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公斤左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FF2-7E2C-477E-B93A-380A49734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四：區域管制與登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14300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警戒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t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在可偵測的環境下，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/2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，可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0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倍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WA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之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法偵測，可參考緊急應變指南疏散建議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arm Zone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以合適架設除污走道及水源處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Cold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前進指揮所、媒體管制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進出管制路線的控制與登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hab Area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23E-4412-4887-BB0B-F2BA490BE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TRATEGY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S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戰略及戰術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F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攻擊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E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守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急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st Aid)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個人防護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P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滅火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止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pill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搜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Rescue)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決定行動的優先順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riori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DSC0000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五：初期行動方案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DAA-0CA8-47A9-B959-5938239BF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DECISION TREE(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決策樹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148428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NCIDENT FAC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1360" y="32367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EVALU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7339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45324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OES INCI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HANGE FAVORA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5120" y="14428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MAKE DECISIONS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TIONS/STRATE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3623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91440" y="304308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PECIFIC GO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ND OBJECT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38862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080" y="453240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MPLEMENT TH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AL OP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87692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35812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E75-1E8B-40BF-A023-2DAB3430EE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066680"/>
            <a:ext cx="739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scu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救援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疏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posur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止曝露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C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ntainment/   Confinement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圍堵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tinguish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撲滅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除危害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5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V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ntilation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6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O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verhaul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檢修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  </a:t>
            </a: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7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covery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RECEV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459-A118-4E6B-9C58-9F2B4A170B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六：指揮權轉移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請求支援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914400"/>
            <a:ext cx="7086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卸任指揮官必須向新任指揮官做簡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狀況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有情形、目標、優先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序、危險物、所需資源等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IAP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及現有狀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考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操作單位人員的指派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70A-5FE7-4B68-9771-83865A0BE5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066680"/>
            <a:ext cx="7543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器材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醫療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消防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附近友廠可用資源調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BAS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資區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選擇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: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只能有一個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DSC0001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298-2AA4-4F60-B110-6F502D6DA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七：整合的應變指揮系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143000"/>
            <a:ext cx="48765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指揮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cident Comma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76520"/>
            <a:ext cx="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712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執行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後勤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457880"/>
            <a:ext cx="198108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計畫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財務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81080"/>
            <a:ext cx="35053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安全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Safety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35049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新聞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fo.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871720"/>
            <a:ext cx="3657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聯絡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aison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1BF-1853-4BDB-B4CF-7A1E9CB916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87280" y="228600"/>
            <a:ext cx="8569080" cy="5600520"/>
            <a:chOff x="287280" y="228600"/>
            <a:chExt cx="8569080" cy="5600520"/>
          </a:xfrm>
        </p:grpSpPr>
        <p:sp>
          <p:nvSpPr>
            <p:cNvPr id="139" name=""/>
            <p:cNvSpPr/>
            <p:nvPr/>
          </p:nvSpPr>
          <p:spPr>
            <a:xfrm>
              <a:off x="60156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680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6680" y="2413440"/>
              <a:ext cx="180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939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6083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91992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5780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124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3484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546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8360" y="771120"/>
              <a:ext cx="0" cy="576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08040" y="100908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4228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8040" y="1002960"/>
              <a:ext cx="7734240" cy="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130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212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15132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90696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54200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7476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6668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6800" y="99612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2600" y="2565360"/>
              <a:ext cx="923760" cy="3254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執行災情查報、災害搶救、治安維護、交通疏導、犯罪偵防及災民救助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72080" y="2565360"/>
              <a:ext cx="428760" cy="3263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有關涉外之協調聯繫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3320" y="2565360"/>
              <a:ext cx="657000" cy="3263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支援災害偵檢、除毒、災情蒐集及通報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565360"/>
              <a:ext cx="657360" cy="3263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穩定金融股匯市及救災款項撥付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44840" y="2565360"/>
              <a:ext cx="419040" cy="3263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執行防災教育宣導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0480" y="2565360"/>
              <a:ext cx="914400" cy="3263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加強工業設施安全防護工作，督促所屬事業採取自來水及電力破壞防止措施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1360" y="2565360"/>
              <a:ext cx="657360" cy="3263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航空、港口及其他交通設施安全防範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12720" y="2565360"/>
              <a:ext cx="866880" cy="3263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新聞發布事項，加強宣導民眾認識毒氣災害及其防救常識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5400" y="2565360"/>
              <a:ext cx="657360" cy="32637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負責緊急醫療及執行傷患救護作業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7280" y="2565360"/>
              <a:ext cx="628560" cy="326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現場檢測及污染整治監控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2565360"/>
              <a:ext cx="447480" cy="326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勞工作業環境安全檢查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6320" y="228600"/>
              <a:ext cx="2792160" cy="52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中央災害應變中心職責架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21600" y="1127160"/>
              <a:ext cx="509400" cy="13377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內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21680" y="1127160"/>
              <a:ext cx="509400" cy="133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外交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0160" y="1127160"/>
              <a:ext cx="509400" cy="1337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國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24520" y="1127160"/>
              <a:ext cx="509400" cy="1337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財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1480" y="1127160"/>
              <a:ext cx="509400" cy="1337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教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7160" y="1127160"/>
              <a:ext cx="509400" cy="1337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經濟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67160" y="1127160"/>
              <a:ext cx="509400" cy="1337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交通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5280" y="907920"/>
              <a:ext cx="399240" cy="1749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新聞局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914760"/>
              <a:ext cx="399240" cy="1749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勞委會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2000" y="914760"/>
              <a:ext cx="399240" cy="1749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衛生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120" y="914760"/>
              <a:ext cx="399240" cy="17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環保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1A1-F8EB-453E-A62A-6EF16F68F7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91440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區之污染濃度再確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除污處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後的衣物及器材需留置於除污區內 收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場災後處理：災後復原計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人員的健康追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DSC00008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八：除污與災後善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5B2-6E00-442F-B1CA-9CFEB8BFF0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9528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此部份通常不演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由事故主管機關為主，協同消防、衛生、勞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警察與相關專家學者進行調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調查結束提出報告，供相關單位檢討改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九：災因調查工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230-D52B-4335-9E07-9BFCDECAB0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花蓮航空站氯氣鋼瓶外洩事故</a:t>
            </a:r>
            <a:r>
              <a:rPr b="0" lang="zh-TW" sz="1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8000" y="907920"/>
            <a:ext cx="813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花蓮縣航空站附近空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氣鋼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花蓮縣航空站附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民眾發現黃色鋼瓶一支，鋼瓶外觀黃色鏽蝕，有刺激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嗆鼻味溢出，花蓮航空站主任電詢工研院葉德惠經理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經研判可能為氯氣。陳范倫緊急出發前往花蓮協助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，並通知中華紙漿公司緊急應變人員攜帶偵測器及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工具組前往協助搶救。經初步止漏後，將鋼瓶移往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華紙漿公司廠內洩氣，事故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解除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3AD-8E4A-423F-8D36-633BB1862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基隆港碼頭區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外洩事故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7993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基隆市基隆港務局貨櫃碼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加侖鐵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吉洋船務公司通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基隆港消防隊，該公司運輸船上一只貨櫃有洩漏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之虞。該公司貨櫃不下港，人員以大量吸液棉及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屑進行吸收圍堵。隔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接獲通報，該貨櫃已落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且有持續洩漏的情形。毒災應變諮詢中心出動偵測小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應變人員趕赴現場支援，經過偵測確認濃度為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5PP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低於容許濃度後，開始進行清櫃與止漏工作。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完成止漏，解除災害狀況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9F0-E89A-4F4D-8F51-7CCC74EC2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仁愛游泳池疑似氯氣外洩事故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蘆洲市民族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8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仁愛游泳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，其中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住院觀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漂白水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途為游泳池消毒用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酸液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檸檬酸、鹽酸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於調整泳池的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PH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:5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某化學公司進行仁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游泳池漂白水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灌裝過程中，誤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漂白水打入酸槽中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檸檬酸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，導致次氯酸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檸檬酸起化學反應，產生低濃度的氯氣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泳客在吸入氯氣後身體不適送醫。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796-6ECE-497F-A079-8515B74ED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80"/>
            <a:ext cx="91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德豐祥苯乙烯及水膠儲槽外洩事故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下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八德市建國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6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德豐祥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SM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製作水膠的原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水膠：用於製作壓克力，衣服纖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德豐祥公司委託台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機械公司進行廠房整地與儲槽搬運工作時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工不慎以堆高機將兩個化學桶槽戳破，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成苯乙烯及水膠外洩，現場瀰漫濃烈刺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位，大量洩漏液因大雨關係沿污水道漫流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CE5-0DD4-44DF-BBF5-1640950B0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埤頭鄉外環道氯乙烯槽車外洩事故</a:t>
            </a: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907920"/>
            <a:ext cx="7848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凌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: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彰化縣埤頭鄉外環道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省道附近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司機死亡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因車禍受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VC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凌晨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00: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輝宇公司運送氯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烯的槽車發生車禍，司機受傷過重死亡，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乙烯槽體底部因碰撞導致些微洩漏，有白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產生，且白煙有下降的趨勢，消防人員緊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以大量水霧冷卻槽體，輝宇公司緊急應變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趕赴現場處理，將槽體緊急止漏後運回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份華夏公司洩料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F07-109D-41DE-BA46-AE6DED568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平鎮淨水場氯氣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平鎮市湧安里南豐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氣：消毒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0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淨水場淨水股陳股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敬鵬公司員工電話反應，聞到刺激性氯氣味道，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股長會同四位處理人員，著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級防護衣進入關閉氯桶開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消防隊員亦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抵達協助水霧噴灑，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40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完成止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並開始通風排氣，此事件造成附近工業區各工廠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37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工送醫，另外還有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消防同仁送醫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B84-26A2-406F-BEF4-877FC1B527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氯乙烯槽車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4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苗栗縣造橋鄉台十三乙線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乙烯：無外洩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柴油：破裂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輝宇通運公司運輸車輛於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M4:5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行經台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乙線造橋段時，因當時路段並未設置路燈，而反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標誌亦損毀，於事故地點突然衝出一隻小狗，駕駛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閃避小狗而撞上不明之尖銳物（疑似貨櫃車之固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栓），造成方向盤輪胎爆裂，而使車輛失控撞上安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島槽車橫躺於路中，槽內物質並未洩漏，人員無傷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564-E8BB-47FB-853A-B4346205E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6:09:57Z</dcterms:created>
  <dc:creator>790773</dc:creator>
  <dc:description/>
  <dc:language>en-US</dc:language>
  <cp:lastModifiedBy>aaa</cp:lastModifiedBy>
  <cp:lastPrinted>2000-09-22T06:43:47Z</cp:lastPrinted>
  <dcterms:modified xsi:type="dcterms:W3CDTF">2002-05-21T03:28:23Z</dcterms:modified>
  <cp:revision>101</cp:revision>
  <dc:subject/>
  <dc:title>無投影片標題</dc:title>
</cp:coreProperties>
</file>